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26.jpeg" ContentType="image/jpeg"/>
  <Override PartName="/ppt/media/image35.png" ContentType="image/png"/>
  <Override PartName="/ppt/media/image30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31.png" ContentType="image/png"/>
  <Override PartName="/ppt/media/image33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D28-4DA3-4DFC-9790-E0B98E09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3015-F8C6-47F3-9F95-A0A44699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DADA-7077-40F3-A836-44FEC10B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7FE7-9C40-487D-8A1A-F7DE2134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CCD9-E207-46B2-A7C7-2C4233AB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90A8-D721-4A71-B7C0-73372BB6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2148-946B-48B1-B19B-E44DE13D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2CE0-9FDE-45CC-962F-AE48E1DB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B38E-D4A4-417E-A050-4BAD63F0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EAFD-5F68-4909-B21A-515C1F26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0DD-963F-4AB5-9DFB-85B975DE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7DFA-7F66-46C2-9817-59E249B6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2ADD-F8D5-4DC1-98D8-530ADCD0E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eisrwacht1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04920" y="281160"/>
            <a:ext cx="8534160" cy="6410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3324240" cy="2444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638680" y="1600200"/>
            <a:ext cx="2595600" cy="1922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8584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3400" y="566640"/>
            <a:ext cx="709128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isrettu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ein Thema nicht nur für den Winter -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Eis-Ziehen" descr=""/>
          <p:cNvPicPr/>
          <p:nvPr/>
        </p:nvPicPr>
        <p:blipFill>
          <a:blip r:embed="rId4"/>
          <a:stretch/>
        </p:blipFill>
        <p:spPr>
          <a:xfrm>
            <a:off x="2209680" y="3878280"/>
            <a:ext cx="4735800" cy="2141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-5991120" y="3110040"/>
            <a:ext cx="48574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rstellt und zusammengefasst</a:t>
            </a: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von Xaver Schruhl</a:t>
            </a: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LRG Kreisverband Havelland e.V.</a:t>
            </a: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57400" y="5105520"/>
            <a:ext cx="48578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rstellt und zusammengefasst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n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Xaver Schruhl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LRG Kreisverband Havelland e.V.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eisrettung5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153640" cy="264132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838080" y="586728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10800"/>
                </a:moveTo>
                <a:lnTo>
                  <a:pt x="30399" y="3794"/>
                </a:lnTo>
                <a:lnTo>
                  <a:pt x="30399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eis2" descr=""/>
          <p:cNvPicPr/>
          <p:nvPr/>
        </p:nvPicPr>
        <p:blipFill>
          <a:blip r:embed="rId2"/>
          <a:stretch/>
        </p:blipFill>
        <p:spPr>
          <a:xfrm>
            <a:off x="609480" y="3011400"/>
            <a:ext cx="8153640" cy="2703600"/>
          </a:xfrm>
          <a:prstGeom prst="rect">
            <a:avLst/>
          </a:prstGeom>
          <a:ln w="0">
            <a:noFill/>
          </a:ln>
        </p:spPr>
      </p:pic>
      <p:pic>
        <p:nvPicPr>
          <p:cNvPr id="80" name="Eis-Leiter" descr=""/>
          <p:cNvPicPr/>
          <p:nvPr/>
        </p:nvPicPr>
        <p:blipFill>
          <a:blip r:embed="rId3"/>
          <a:stretch/>
        </p:blipFill>
        <p:spPr>
          <a:xfrm>
            <a:off x="1066680" y="3429000"/>
            <a:ext cx="7429680" cy="200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Eis-Ziehen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3754440"/>
          </a:xfrm>
          <a:prstGeom prst="rect">
            <a:avLst/>
          </a:prstGeom>
          <a:ln w="0">
            <a:noFill/>
          </a:ln>
        </p:spPr>
      </p:pic>
      <p:pic>
        <p:nvPicPr>
          <p:cNvPr id="82" name="eisrettung2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420400" cy="2004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3520" y="5791320"/>
            <a:ext cx="1371600" cy="609480"/>
          </a:xfrm>
          <a:custGeom>
            <a:avLst/>
            <a:gdLst>
              <a:gd name="textAreaLeft" fmla="*/ 39240 w 1371600"/>
              <a:gd name="textAreaRight" fmla="*/ 1332360 w 1371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8594" h="21600">
                <a:moveTo>
                  <a:pt x="0" y="0"/>
                </a:moveTo>
                <a:lnTo>
                  <a:pt x="48594" y="0"/>
                </a:lnTo>
                <a:lnTo>
                  <a:pt x="48594" y="21600"/>
                </a:lnTo>
                <a:lnTo>
                  <a:pt x="0" y="21600"/>
                </a:lnTo>
                <a:close/>
              </a:path>
              <a:path fill="lightenLess" w="48594" h="21600">
                <a:moveTo>
                  <a:pt x="0" y="0"/>
                </a:moveTo>
                <a:lnTo>
                  <a:pt x="48594" y="0"/>
                </a:lnTo>
                <a:lnTo>
                  <a:pt x="47194" y="1400"/>
                </a:lnTo>
                <a:lnTo>
                  <a:pt x="1400" y="1400"/>
                </a:lnTo>
                <a:close/>
              </a:path>
              <a:path fill="darken" w="48594" h="21600">
                <a:moveTo>
                  <a:pt x="48594" y="0"/>
                </a:moveTo>
                <a:lnTo>
                  <a:pt x="48594" y="21600"/>
                </a:lnTo>
                <a:lnTo>
                  <a:pt x="47194" y="20200"/>
                </a:lnTo>
                <a:lnTo>
                  <a:pt x="47194" y="1400"/>
                </a:lnTo>
                <a:close/>
              </a:path>
              <a:path fill="darkenLess" w="48594" h="21600">
                <a:moveTo>
                  <a:pt x="48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94" y="20200"/>
                </a:lnTo>
                <a:close/>
              </a:path>
              <a:path fill="lighten" w="48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94" h="21600">
                <a:moveTo>
                  <a:pt x="17290" y="10800"/>
                </a:moveTo>
                <a:lnTo>
                  <a:pt x="31303" y="3794"/>
                </a:lnTo>
                <a:lnTo>
                  <a:pt x="31303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Gurtrettereinsatz" descr=""/>
          <p:cNvPicPr/>
          <p:nvPr/>
        </p:nvPicPr>
        <p:blipFill>
          <a:blip r:embed="rId3"/>
          <a:stretch/>
        </p:blipFill>
        <p:spPr>
          <a:xfrm>
            <a:off x="380880" y="1600200"/>
            <a:ext cx="8382240" cy="297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Eisrettungsübung" descr=""/>
          <p:cNvPicPr/>
          <p:nvPr/>
        </p:nvPicPr>
        <p:blipFill>
          <a:blip r:embed="rId1"/>
          <a:stretch/>
        </p:blipFill>
        <p:spPr>
          <a:xfrm>
            <a:off x="304920" y="755640"/>
            <a:ext cx="8305560" cy="5721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826920"/>
            <a:ext cx="84582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lied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Einlei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Allgemeines zum Thema Eisret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Eisbild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Rettung von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Selbstret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isrettungsausrüs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isrettungstechn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 machen bis der Rettungsdienst da i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051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eis1" descr=""/>
          <p:cNvPicPr/>
          <p:nvPr/>
        </p:nvPicPr>
        <p:blipFill>
          <a:blip r:embed="rId1"/>
          <a:stretch/>
        </p:blipFill>
        <p:spPr>
          <a:xfrm>
            <a:off x="457200" y="1839960"/>
            <a:ext cx="8458200" cy="3093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762120" y="2057400"/>
            <a:ext cx="7848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lbstrettu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2286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57200"/>
            <a:ext cx="8763120" cy="6189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ichtige Regeln bei Eiseinbr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uhe bew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ersuchen sich in Bauchlage auf feste Eisschichten in Richtung zum Ufer zu bewe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m Hilfe ru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o wenig wie möglich bewe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ollte das Loch nicht allzu groß sein, mit den Füßen versuchen die gegenüber liegende Eiskante zu errei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ch Erreichen des Ufers sofort einen beheizten Raum aufsuchen und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langsam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aufwä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bedingt in ärztliche Behandlung bege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eis1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4848120" cy="1773000"/>
          </a:xfrm>
          <a:prstGeom prst="rect">
            <a:avLst/>
          </a:prstGeom>
          <a:ln w="0">
            <a:noFill/>
          </a:ln>
        </p:spPr>
      </p:pic>
      <p:pic>
        <p:nvPicPr>
          <p:cNvPr id="93" name="eisrettung1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7429320" cy="184284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685800" y="58672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163" h="21600">
                <a:moveTo>
                  <a:pt x="23575" y="10800"/>
                </a:moveTo>
                <a:lnTo>
                  <a:pt x="37588" y="3794"/>
                </a:lnTo>
                <a:lnTo>
                  <a:pt x="3758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Eisrettungsübung" descr=""/>
          <p:cNvPicPr/>
          <p:nvPr/>
        </p:nvPicPr>
        <p:blipFill>
          <a:blip r:embed="rId1"/>
          <a:stretch/>
        </p:blipFill>
        <p:spPr>
          <a:xfrm>
            <a:off x="228600" y="654120"/>
            <a:ext cx="8534520" cy="5898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920" y="826920"/>
            <a:ext cx="84582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lied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Einlei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Allgemeines zum Thema Eisret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Eisbild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Rettung von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Selbstret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isrettungsausrüs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isrettungstechnike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 machen bis der Rettungsdienst da i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051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33520" y="1981080"/>
            <a:ext cx="80769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isrettungsausrüstu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609480"/>
            <a:ext cx="8153280" cy="5679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isrettungsausrüst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r Markt gibt derzeit eine stattliche Zahl unterschiedlicher Hilfsmittel für die Eisrettung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eginnend mit der althergebrachten Leiter, dem Rettungsring und dem Rettungsbret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e industriell vorangetriebenen Innovationen gepaart mit der Erfahrung und dem Ideenreichtum der Wasserretter brachte in den letzten Jahren eine Vielzahl unterschiedlicher, aber sehr zweckmäßiger Eisrettungsmittel zum Vorsch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chfolgend seien ein paar davon vorgestel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Eis-Kufen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429000" cy="1600200"/>
          </a:xfrm>
          <a:prstGeom prst="rect">
            <a:avLst/>
          </a:prstGeom>
          <a:ln w="0">
            <a:noFill/>
          </a:ln>
        </p:spPr>
      </p:pic>
      <p:pic>
        <p:nvPicPr>
          <p:cNvPr id="101" name="Eis-Pickel" descr=""/>
          <p:cNvPicPr/>
          <p:nvPr/>
        </p:nvPicPr>
        <p:blipFill>
          <a:blip r:embed="rId2"/>
          <a:stretch/>
        </p:blipFill>
        <p:spPr>
          <a:xfrm>
            <a:off x="457200" y="4724280"/>
            <a:ext cx="2286000" cy="1671840"/>
          </a:xfrm>
          <a:prstGeom prst="rect">
            <a:avLst/>
          </a:prstGeom>
          <a:ln w="0">
            <a:noFill/>
          </a:ln>
        </p:spPr>
      </p:pic>
      <p:pic>
        <p:nvPicPr>
          <p:cNvPr id="102" name="ferno1" descr=""/>
          <p:cNvPicPr/>
          <p:nvPr/>
        </p:nvPicPr>
        <p:blipFill>
          <a:blip r:embed="rId3"/>
          <a:stretch/>
        </p:blipFill>
        <p:spPr>
          <a:xfrm>
            <a:off x="0" y="2057400"/>
            <a:ext cx="3635280" cy="2114640"/>
          </a:xfrm>
          <a:prstGeom prst="rect">
            <a:avLst/>
          </a:prstGeom>
          <a:ln w="0">
            <a:noFill/>
          </a:ln>
        </p:spPr>
      </p:pic>
      <p:pic>
        <p:nvPicPr>
          <p:cNvPr id="103" name="Eis-Bfaklein" descr=""/>
          <p:cNvPicPr/>
          <p:nvPr/>
        </p:nvPicPr>
        <p:blipFill>
          <a:blip r:embed="rId4"/>
          <a:stretch/>
        </p:blipFill>
        <p:spPr>
          <a:xfrm>
            <a:off x="5562720" y="1752480"/>
            <a:ext cx="3189240" cy="1839960"/>
          </a:xfrm>
          <a:prstGeom prst="rect">
            <a:avLst/>
          </a:prstGeom>
          <a:ln w="0">
            <a:noFill/>
          </a:ln>
        </p:spPr>
      </p:pic>
      <p:pic>
        <p:nvPicPr>
          <p:cNvPr id="104" name="Schnelle-Einsatztrage" descr=""/>
          <p:cNvPicPr/>
          <p:nvPr/>
        </p:nvPicPr>
        <p:blipFill>
          <a:blip r:embed="rId5"/>
          <a:stretch/>
        </p:blipFill>
        <p:spPr>
          <a:xfrm>
            <a:off x="5943600" y="4559400"/>
            <a:ext cx="3200400" cy="22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09880" y="380880"/>
            <a:ext cx="1905120" cy="1219320"/>
          </a:xfrm>
          <a:prstGeom prst="wedgeRoundRectCallout">
            <a:avLst>
              <a:gd name="adj1" fmla="val -80166"/>
              <a:gd name="adj2" fmla="val 26041"/>
              <a:gd name="adj3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Schlauchboot mit Metallgestell (-kuf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304920"/>
            <a:ext cx="2514600" cy="1066680"/>
          </a:xfrm>
          <a:prstGeom prst="wedgeRoundRectCallout">
            <a:avLst>
              <a:gd name="adj1" fmla="val -14898"/>
              <a:gd name="adj2" fmla="val 110861"/>
              <a:gd name="adj3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Bfa-Eisret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( ähnlich dem Switlik-rescue-Seld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2362320"/>
            <a:ext cx="2133720" cy="1295280"/>
          </a:xfrm>
          <a:prstGeom prst="wedgeRoundRectCallout">
            <a:avLst>
              <a:gd name="adj1" fmla="val -54240"/>
              <a:gd name="adj2" fmla="val 59925"/>
              <a:gd name="adj3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Rescue alive – Eisretter von F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886200" y="3809880"/>
            <a:ext cx="2819520" cy="685800"/>
          </a:xfrm>
          <a:prstGeom prst="wedgeRoundRectCallout">
            <a:avLst>
              <a:gd name="adj1" fmla="val -52986"/>
              <a:gd name="adj2" fmla="val 86569"/>
              <a:gd name="adj3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chnelle Einsatzt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4648320"/>
            <a:ext cx="3124080" cy="533160"/>
          </a:xfrm>
          <a:prstGeom prst="wedgeRoundRectCallout">
            <a:avLst>
              <a:gd name="adj1" fmla="val -43518"/>
              <a:gd name="adj2" fmla="val 155652"/>
              <a:gd name="adj3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Eispickel für den Eisr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eisretter%20Rheinhausen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525920" cy="6000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4920" y="1143000"/>
            <a:ext cx="3809880" cy="3764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Times New Roman"/>
              </a:rPr>
              <a:t>Kameraden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Times New Roman"/>
              </a:rPr>
              <a:t>DLRG Ortgrup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Times New Roman"/>
              </a:rPr>
              <a:t>Rheinhausen e.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Times New Roman"/>
              </a:rPr>
              <a:t>mit einem eigens fü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Times New Roman"/>
              </a:rPr>
              <a:t>den Toeppersee ent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Times New Roman"/>
              </a:rPr>
              <a:t>wickelten Eisretter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Eisrettungsübung" descr=""/>
          <p:cNvPicPr/>
          <p:nvPr/>
        </p:nvPicPr>
        <p:blipFill>
          <a:blip r:embed="rId1"/>
          <a:stretch/>
        </p:blipFill>
        <p:spPr>
          <a:xfrm>
            <a:off x="228600" y="604800"/>
            <a:ext cx="8610480" cy="5948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4920" y="826920"/>
            <a:ext cx="84582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Glied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Einlei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Allgemeines zum Thema Eisret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Eisbild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Rettung von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Selbstret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Eisrettungsausrüs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Eisrettungstechn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Was machen bis der Rettungsdienst da i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051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isrettungsübung" descr=""/>
          <p:cNvPicPr/>
          <p:nvPr/>
        </p:nvPicPr>
        <p:blipFill>
          <a:blip r:embed="rId1"/>
          <a:stretch/>
        </p:blipFill>
        <p:spPr>
          <a:xfrm>
            <a:off x="76320" y="703440"/>
            <a:ext cx="8839080" cy="5849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826920"/>
            <a:ext cx="84582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lied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Einlei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gemeines zum Thema Eisret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isbild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ttung von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bstret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isrettungsausrüs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isrettungstechn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 machen bis der Rettungsdienst da i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051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Eis-Bergung" descr=""/>
          <p:cNvPicPr/>
          <p:nvPr/>
        </p:nvPicPr>
        <p:blipFill>
          <a:blip r:embed="rId1"/>
          <a:stretch/>
        </p:blipFill>
        <p:spPr>
          <a:xfrm>
            <a:off x="2514600" y="228600"/>
            <a:ext cx="4343400" cy="2179800"/>
          </a:xfrm>
          <a:prstGeom prst="rect">
            <a:avLst/>
          </a:prstGeom>
          <a:ln w="0">
            <a:noFill/>
          </a:ln>
        </p:spPr>
      </p:pic>
      <p:pic>
        <p:nvPicPr>
          <p:cNvPr id="116" name="Eis-Eismann" descr=""/>
          <p:cNvPicPr/>
          <p:nvPr/>
        </p:nvPicPr>
        <p:blipFill>
          <a:blip r:embed="rId2"/>
          <a:stretch/>
        </p:blipFill>
        <p:spPr>
          <a:xfrm>
            <a:off x="304920" y="2514600"/>
            <a:ext cx="4228920" cy="2198520"/>
          </a:xfrm>
          <a:prstGeom prst="rect">
            <a:avLst/>
          </a:prstGeom>
          <a:ln w="0">
            <a:noFill/>
          </a:ln>
        </p:spPr>
      </p:pic>
      <p:pic>
        <p:nvPicPr>
          <p:cNvPr id="117" name="Gurtrettereinsatz" descr=""/>
          <p:cNvPicPr/>
          <p:nvPr/>
        </p:nvPicPr>
        <p:blipFill>
          <a:blip r:embed="rId3"/>
          <a:stretch/>
        </p:blipFill>
        <p:spPr>
          <a:xfrm>
            <a:off x="4572000" y="2514600"/>
            <a:ext cx="4343400" cy="2173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4920" y="5060880"/>
            <a:ext cx="8610480" cy="11912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e anzuwendende Technik der Eisrettung hängt unmittelbar mit der örtlichen Situation, den vorhandenen Einsatzmitteln und dem vor Ort befindlichen Personal zusam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Eisrettungsübung" descr=""/>
          <p:cNvPicPr/>
          <p:nvPr/>
        </p:nvPicPr>
        <p:blipFill>
          <a:blip r:embed="rId1"/>
          <a:stretch/>
        </p:blipFill>
        <p:spPr>
          <a:xfrm>
            <a:off x="228600" y="604800"/>
            <a:ext cx="8610480" cy="6024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4920" y="826920"/>
            <a:ext cx="84582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Glied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Einlei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Allgemeines zum Thema Eisret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Eisbild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Rettung von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Selbstret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Eisrettungsausrüs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Eisrettungstechn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Was machen bis der Rettungsdienst da i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051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Übergabe%20an%20RD" descr=""/>
          <p:cNvPicPr/>
          <p:nvPr/>
        </p:nvPicPr>
        <p:blipFill>
          <a:blip r:embed="rId1"/>
          <a:stretch/>
        </p:blipFill>
        <p:spPr>
          <a:xfrm>
            <a:off x="5943600" y="3657600"/>
            <a:ext cx="2963880" cy="2971800"/>
          </a:xfrm>
          <a:prstGeom prst="rect">
            <a:avLst/>
          </a:prstGeom>
          <a:ln w="0">
            <a:noFill/>
          </a:ln>
        </p:spPr>
      </p:pic>
      <p:pic>
        <p:nvPicPr>
          <p:cNvPr id="123" name="Warmhalten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2514600" cy="1806480"/>
          </a:xfrm>
          <a:prstGeom prst="rect">
            <a:avLst/>
          </a:prstGeom>
          <a:ln w="0">
            <a:noFill/>
          </a:ln>
        </p:spPr>
      </p:pic>
      <p:pic>
        <p:nvPicPr>
          <p:cNvPr id="124" name="Warmhalten2" descr=""/>
          <p:cNvPicPr/>
          <p:nvPr/>
        </p:nvPicPr>
        <p:blipFill>
          <a:blip r:embed="rId3"/>
          <a:stretch/>
        </p:blipFill>
        <p:spPr>
          <a:xfrm>
            <a:off x="3086280" y="2419200"/>
            <a:ext cx="2857320" cy="1771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685800" y="1371600"/>
            <a:ext cx="7620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as machen, bis de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ttungsdiens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 ist 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304920"/>
            <a:ext cx="5486400" cy="2094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 einen warmen, windgeschützten Raum bring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asse Kleidung entfernen und in Decken hü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!!! NICHT frottieren !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lach hinlegen und möglichst wenig bew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286000"/>
            <a:ext cx="2819520" cy="1936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Körperaufwärm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warme, gezuckerte Getränke ( Fruchsäft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ggf. sofort mit der HLW begin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648320"/>
            <a:ext cx="5486400" cy="1747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e verunfallte Person dem Rettungsdienst überge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Nicht vergessen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 sagen was man bisher unternommen und gemacht hat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Eisrettungsübu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124000" y="2338560"/>
            <a:ext cx="5038920" cy="20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sume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39680"/>
            <a:ext cx="8305920" cy="67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gil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uhe bewah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eine überflüssigen Beweg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m Hilfe ruf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ärztliche Behandlung bege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d vor allen Dingen auf örtliche Bekanntmachungen und Kundige hö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80880" y="380880"/>
            <a:ext cx="8458200" cy="6388920"/>
            <a:chOff x="380880" y="380880"/>
            <a:chExt cx="8458200" cy="6388920"/>
          </a:xfrm>
        </p:grpSpPr>
        <p:sp>
          <p:nvSpPr>
            <p:cNvPr id="133" name=""/>
            <p:cNvSpPr/>
            <p:nvPr/>
          </p:nvSpPr>
          <p:spPr>
            <a:xfrm>
              <a:off x="380880" y="380880"/>
              <a:ext cx="8458200" cy="632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880" y="3614760"/>
              <a:ext cx="8458200" cy="21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Was ist zu tun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Fehlende rechtlich eindeutige Aussagen zur Verkehrssicherungspflicht für öffentliche Gewässer lassen es nur in einigen Bundesländern zu, das Betreten der Gewässer in ihrer Gesamtheit  zu untersage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er1" descr=""/>
            <p:cNvPicPr/>
            <p:nvPr/>
          </p:nvPicPr>
          <p:blipFill>
            <a:blip r:embed="rId1"/>
            <a:stretch/>
          </p:blipFill>
          <p:spPr>
            <a:xfrm>
              <a:off x="1981080" y="1447920"/>
              <a:ext cx="89244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er2" descr=""/>
            <p:cNvPicPr/>
            <p:nvPr/>
          </p:nvPicPr>
          <p:blipFill>
            <a:blip r:embed="rId2"/>
            <a:stretch/>
          </p:blipFill>
          <p:spPr>
            <a:xfrm>
              <a:off x="4114800" y="762120"/>
              <a:ext cx="89208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er3" descr=""/>
            <p:cNvPicPr/>
            <p:nvPr/>
          </p:nvPicPr>
          <p:blipFill>
            <a:blip r:embed="rId3"/>
            <a:stretch/>
          </p:blipFill>
          <p:spPr>
            <a:xfrm>
              <a:off x="6346800" y="1371600"/>
              <a:ext cx="89208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er4" descr=""/>
            <p:cNvPicPr/>
            <p:nvPr/>
          </p:nvPicPr>
          <p:blipFill>
            <a:blip r:embed="rId4"/>
            <a:stretch/>
          </p:blipFill>
          <p:spPr>
            <a:xfrm>
              <a:off x="1981080" y="3505320"/>
              <a:ext cx="89244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er5" descr=""/>
            <p:cNvPicPr/>
            <p:nvPr/>
          </p:nvPicPr>
          <p:blipFill>
            <a:blip r:embed="rId5"/>
            <a:stretch/>
          </p:blipFill>
          <p:spPr>
            <a:xfrm>
              <a:off x="4114800" y="4506840"/>
              <a:ext cx="89208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er6" descr=""/>
            <p:cNvPicPr/>
            <p:nvPr/>
          </p:nvPicPr>
          <p:blipFill>
            <a:blip r:embed="rId6"/>
            <a:stretch/>
          </p:blipFill>
          <p:spPr>
            <a:xfrm>
              <a:off x="6423120" y="3505320"/>
              <a:ext cx="89208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523880" y="2590920"/>
              <a:ext cx="1828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isflächen nur betreten, wenn sie von der Behörde  freigegeben sin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57600" y="1828800"/>
              <a:ext cx="18288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ttungsgeräte (Leitern, Stangen, Ringe, Bälle, Leinen, usw.) sind keine Spielzeu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3600" y="2438280"/>
              <a:ext cx="1828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e Anweisungen der Ordnungsorgane und Behörden sind strikt einzuhalten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23880" y="4572000"/>
              <a:ext cx="18288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ei Rissbildung, verursacht durch Tauwetter, sind Massenansammlungen zu vermeid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4080" y="5610240"/>
              <a:ext cx="28958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lbstrettung bei Eiseinbruch! Sofort Arme und Beine ausbreiten und versuchen in der gleichen Richtung auszusteigen, ais der man gekommen is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3600" y="4619520"/>
              <a:ext cx="182880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iseinbruch! – Sofort weitere Helfer alarmieren und sich nur in Bauchlage und einem Rettungsgerät dem Eingebrochenen näher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7" name="Eiseinbruch" descr=""/>
          <p:cNvPicPr/>
          <p:nvPr/>
        </p:nvPicPr>
        <p:blipFill>
          <a:blip r:embed="rId7"/>
          <a:stretch/>
        </p:blipFill>
        <p:spPr>
          <a:xfrm>
            <a:off x="380880" y="534960"/>
            <a:ext cx="8458200" cy="5942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80880" y="3614760"/>
            <a:ext cx="8458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s ist zu tu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hlende rechtlich eindeutige Aussagen zur Verkehrssicherungspflicht für öffentliche Gewässer lassen es nur in einigen Bundesländern zu, das Betreten der Gewässer in ihrer Gesamtheit  zu untersa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14600" y="1519200"/>
            <a:ext cx="4471920" cy="351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azu ein Tipp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ür eine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childerinhal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us der Schweiz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kopfleis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132680" cy="560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90720" y="914400"/>
            <a:ext cx="7086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Quellenverzeich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LRG Ortsgruppe Rheinhausen e.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LRG Ortsgruppe Lohfelden-Fuldabrück e.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LRG Bundesarchiv Bad-Nenndo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LRG Archiv Eisret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LRG Ortsgruppe Leimen e.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LRG Bezirk Konstanz e.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Fw Frah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Winterlandschaft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410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209680" y="2209680"/>
            <a:ext cx="49532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inleitu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28600"/>
            <a:ext cx="861048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reizeitspaß Winter- und Eiswand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f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isrettungsdie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fessionelle Hil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hnender Finger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isrettungsübung" descr=""/>
          <p:cNvPicPr/>
          <p:nvPr/>
        </p:nvPicPr>
        <p:blipFill>
          <a:blip r:embed="rId1"/>
          <a:stretch/>
        </p:blipFill>
        <p:spPr>
          <a:xfrm>
            <a:off x="228600" y="604800"/>
            <a:ext cx="8610480" cy="6024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826920"/>
            <a:ext cx="84582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lied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Einlei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Allgemeines zum Thema Eisret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isbild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ttung von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bstret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isrettungsausrüs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isrettungstechn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 machen bis der Rettungsdienst da i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051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Wasserrettung" descr=""/>
          <p:cNvPicPr/>
          <p:nvPr/>
        </p:nvPicPr>
        <p:blipFill>
          <a:blip r:embed="rId1"/>
          <a:stretch/>
        </p:blipFill>
        <p:spPr>
          <a:xfrm>
            <a:off x="533520" y="399960"/>
            <a:ext cx="7848360" cy="5886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581280" y="762120"/>
            <a:ext cx="47246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e Wasserrettungsorganisationen stellen im Wint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iswachen,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tungsgerä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nitätsmaterial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rechfunk mit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133720" y="3962520"/>
            <a:ext cx="4653000" cy="2290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828800"/>
            <a:ext cx="81532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lgemeines zum Them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isrettu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Eisrettungsübung" descr=""/>
          <p:cNvPicPr/>
          <p:nvPr/>
        </p:nvPicPr>
        <p:blipFill>
          <a:blip r:embed="rId1"/>
          <a:stretch/>
        </p:blipFill>
        <p:spPr>
          <a:xfrm>
            <a:off x="304920" y="654120"/>
            <a:ext cx="8458200" cy="5898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826920"/>
            <a:ext cx="84582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lied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Einlei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Allgemeines zum Thema Eisret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Eisbild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ttung von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bstret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isrettungsausrüs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isrettungstechn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 machen bis der Rettungsdienst da i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051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H02565J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534520" cy="624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754200"/>
            <a:ext cx="84582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isbi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ur Eisbildung benötigt es mehrere Faktoren, die begünstigend wi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ng andauernde tiefe Temperatu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öglichst langsam fließendes Gewäs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öglichst wenig Stö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nig Ufer- und/oder Bodenbewu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aum Wasseraustau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eine wärmeliefernden Qu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00200" y="1752480"/>
            <a:ext cx="6172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isbildu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85800"/>
            <a:ext cx="8610480" cy="52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isdicken und deren Tragfäh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ür einen einzelnen Menschen                       5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ür mehrere Menschen ( z.B. Eisstock-        8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hießen oder Glühweinstand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ür Schlittenfahrzeuge                                  12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ür Fahrzeuge ( z.B. Auto )                          18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e Angaben sind Durchschnittswerte und nicht  bindend für jedes Gewässer. Unbedingt vor dem Betreten Ortskundige befrage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Eisrettungsübung" descr=""/>
          <p:cNvPicPr/>
          <p:nvPr/>
        </p:nvPicPr>
        <p:blipFill>
          <a:blip r:embed="rId1"/>
          <a:stretch/>
        </p:blipFill>
        <p:spPr>
          <a:xfrm>
            <a:off x="304920" y="604800"/>
            <a:ext cx="8534160" cy="6024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920" y="826920"/>
            <a:ext cx="84582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lied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Einlei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Allgemeines zum Thema Eisret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Eisbild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Rettung von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bstret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isrettungsausrüstu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isrettungstechn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 machen bis der Rettungsdienst da i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051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Eiseinbruch" descr=""/>
          <p:cNvPicPr/>
          <p:nvPr/>
        </p:nvPicPr>
        <p:blipFill>
          <a:blip r:embed="rId1"/>
          <a:stretch/>
        </p:blipFill>
        <p:spPr>
          <a:xfrm>
            <a:off x="304920" y="534960"/>
            <a:ext cx="8534160" cy="5784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157320"/>
            <a:ext cx="85341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ichtige Grundsätze bei der Fremdret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wicht vertei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icht ohne Hilfsmit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hne Hilfsmittel möglichst in Bauch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Äste oder Kleidung zurei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i mehreren Rettern, Kette bi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3657600"/>
            <a:ext cx="8458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lfsmittel können u.a. se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i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hli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8600" y="2590920"/>
            <a:ext cx="88390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Bei aller Vorsicht ist Eile geboten!!!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47920" y="1219320"/>
            <a:ext cx="67053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ttu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vo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ersone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18:24:38Z</dcterms:created>
  <dc:creator>Schruhl</dc:creator>
  <dc:description/>
  <dc:language>en-US</dc:language>
  <cp:lastModifiedBy>Schruhl</cp:lastModifiedBy>
  <dcterms:modified xsi:type="dcterms:W3CDTF">2001-12-18T00:00:03Z</dcterms:modified>
  <cp:revision>58</cp:revision>
  <dc:subject/>
  <dc:title>PowerPoint-Präsentation</dc:title>
</cp:coreProperties>
</file>